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7E45-9ECB-4E68-B018-604A18A6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D89-FBD2-4D06-92F3-CE00540A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A0D-2A4A-44AE-9B94-65696031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640-51AE-483C-BF45-EEB6E5DA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E92-CADD-4341-9BA7-C3072021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6F35-252A-479E-A5B2-8B8D7D9C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AC5-FBDF-46AC-B24D-1747297E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6FA-8D47-450D-A126-3B884114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DF8-2DB3-4452-B663-548576C8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895A-8232-4F9F-9999-36E94C7D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2E7-B1E4-4F54-B449-87AC2610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289-278C-4E67-8810-CEF9CA34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D27-183F-4D5B-AFCB-FE471BF41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dagascar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pe P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07960" y="1828800"/>
            <a:ext cx="2201760" cy="3067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13680" y="4775040"/>
            <a:ext cx="23083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jor Historical Ev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In the 15th century, 1895, Madagascar became a French colon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149640" y="3759120"/>
            <a:ext cx="32767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7320" y="1422360"/>
            <a:ext cx="96598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iki.answers.com/Q/Did_anyone_famous_come_from_Madagasc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google.com/search?rlz=1C1GGIE_en&amp;aq=2&amp;oq=population+of+mad&amp;sourceid=chrome&amp;ie=UTF-8&amp;q=population+of+madagascar#sclient=psy-ab&amp;hl=en&amp;rlz=1C1GGIE_en&amp;source=hp&amp;q=capital+of+madagascar&amp;pbx=1&amp;oq=+of+madagascar&amp;aq=3c&amp;aqi=g-c4&amp;aql=&amp;gs_sm=c&amp;gs_upl=148036l148036l0l150466l1l1l0l0l0l0l141l141l0.1l1l0&amp;fp=1&amp;biw=1280&amp;bih=933&amp;bav=on.2,or.r_gc.r_pw.,cf.osb&amp;cad=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google.com/search?rlz=1C1GGIE_en&amp;aq=2&amp;oq=population+of+mad&amp;sourceid=chrome&amp;ie=UTF-8&amp;q=population+of+madagasca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s://www.google.com/search?aq=f&amp;sourceid=chrome&amp;ie=UTF-8&amp;q=form+of+government+for+madagascar#pq=current+leader+madagascar&amp;hl=en&amp;tok=bE4f1LJobiluS9drx2MWOg&amp;cp=33&amp;gs_id=2t&amp;xhr=t&amp;q=current+leader+of+madagascar+2012&amp;pf=p&amp;sclient=psy-ab&amp;source=hp&amp;pbx=1&amp;oq=current+leader+of+madagascar+2012&amp;aq=f&amp;aqi=&amp;aql=&amp;gs_sm=&amp;gs_upl=&amp;fp=1&amp;biw=1024&amp;bih=475&amp;bav=on.2,or.r_gc.r_pw.,cf.osb&amp;cad=b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s://www.google.com/search?aq=f&amp;sourceid=chrome&amp;ie=UTF-8&amp;q=form+of+government+for+madagascar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enchantedlearning.com/africa/madagascar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articleswave.com/cultures-and-civilizations/culture-of-madagascar.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dd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ccccff"/>
                </a:solidFill>
                <a:uFillTx/>
                <a:latin typeface="Times New Roman"/>
              </a:rPr>
              <a:t>http://africanhistory.about.com/od/madagasca1/Madagascar.htm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Capital and Popul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population of Madagascar is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0,713,81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dagascar's capital is  Antananariv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01880" y="2946240"/>
            <a:ext cx="3375000" cy="2872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4165560"/>
            <a:ext cx="87336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Famous Person From Madagasc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ean-Joseph Rabéarivelo is a famous poet from Madagasca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51160" y="3048120"/>
            <a:ext cx="26416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9400" y="297000"/>
            <a:ext cx="965988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Form of Government and Current Lead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type of government for Madagascar is dictatorship and republi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current leader of Madagascar is 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ry Rajoeli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60640" y="3251160"/>
            <a:ext cx="235764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jor Ex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wo major exports of Madagascar is coffee and vanill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06440" y="2844720"/>
            <a:ext cx="3984480" cy="2227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502320" y="4368960"/>
            <a:ext cx="26798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jor Relig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e major beliefs or religions are Christian and the others are traditional belief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336760" y="3759120"/>
            <a:ext cx="48960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Important Holiday of Madagasc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dagascar's Independence Day is celebrated on June 26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adagascar's Curren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unit of money in Madagascar is the Malagasy fran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38280" y="3149640"/>
            <a:ext cx="50594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Music and Dancing in Madagasca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music in Madagascar, traditional and contemporary revolves around dance rhythms which are influenced both from the African as well as the Indonesian mainlan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8120" y="3759120"/>
            <a:ext cx="31748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